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353-3EC5-41AF-81D3-3CECF7C4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54C-D02D-4BB4-A892-ACE9AD77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CFD-B021-432D-98A0-DAE2DBF0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51F-97FE-4918-AAB3-3E4BB186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DED-9D77-43E1-91D5-099B236A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9D6-BBAE-4B5C-B53F-06274E57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84D-14F9-4C19-8BEC-C56E25A8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1B7-10CE-466E-AE40-0E1C6C26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312-9BBA-4713-807B-2921B762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404-0601-4FD9-B3DA-DC09198F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81B-10A4-4BF9-8569-9CFE7D61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B39-5F31-475D-BE96-A130D2B8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5940-2862-4F5D-9A25-F892C61C4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2:35:30Z</dcterms:created>
  <dc:creator>Patrick J. Mooney</dc:creator>
  <dc:description/>
  <dc:language>en-US</dc:language>
  <cp:lastModifiedBy>Patrick J. Mooney</cp:lastModifiedBy>
  <dcterms:modified xsi:type="dcterms:W3CDTF">2011-12-01T02:37:21Z</dcterms:modified>
  <cp:revision>2</cp:revision>
  <dc:subject/>
  <dc:title>Slide 1</dc:title>
</cp:coreProperties>
</file>